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CB0-C87C-4031-86A7-3A11B5B8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E69-2533-402C-B192-F0A878B1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9F378-0F69-4E92-9949-67EF553A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1247C-7604-416A-861C-96412295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1E237-CCF1-45B3-A73C-D255D58F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47699-A7BB-4D61-BBD3-13DABCE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CD41-A3DD-468F-B41C-055AA9E5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6EEC1-953E-40F0-8FA6-83DF311E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7F91B-06A4-45B1-943A-AFC24838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45FF8-CA62-4C51-A7AE-82B26BCC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F5F1C-7A80-4823-A11E-6E8A81DE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90608-8822-45E5-9545-93A6C729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06F-47DC-446A-BEE3-BD8D1756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4EB91-61A6-4D1B-AEEB-C315499E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2512E-1B11-4818-B7F2-6EC9E635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68188-1F00-460A-AE62-97C4DF37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4CED5-5AA6-42F9-B96E-A7353A5B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D89D3-08A9-440B-B4C2-F6622F9E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E12F3-4EDA-4548-8D48-0BCD0A4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1CBBE-FBDA-417C-98F9-66A85867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C9DBC-C67F-4526-9AA8-3CF8334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166FD-DD5F-44A5-A2C1-9F1A51E1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CFBF8-DBD2-4BFC-ABC9-D8A4AD48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C49-0C16-4300-AB81-B1F5C5D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88AB7-08A0-415C-9916-B4CE9DA8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9C828-D98B-463E-9CCC-C8C3D3F1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7BE21-B259-4F06-9A7C-AFC1A3B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2CA20-3A67-4564-9CD3-B432BF50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6A383-4106-4E3C-97C9-2B8D6330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26CC3-DB22-49A8-9B94-C5963C3C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8A8ED-A370-4332-AF5B-F1498CBD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57E5B-C2B6-41D4-BCAC-9B3C44E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654FC-0636-4864-88B8-3963625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153DE-68C2-4317-8FAC-5599232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B9B7-4B0B-4327-913D-1F45314A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2C361-4025-4F07-A670-9D772FC2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062E2-8482-4668-9944-99AC7AC8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673BB-387F-4A90-A5C4-A81ED853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847E6-C31A-4C0F-AF02-115A5C7F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AD5C5-1854-4E5E-8330-84566F5C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FD744-9CFE-42CF-A995-2A151397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1BEF3-99A3-48F4-9412-F0EEA074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7EA04-9EB1-4C2A-A579-40108E7F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9943E-CC4E-4FB2-8CD2-2A52AE4C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DBB87-70EA-420C-BCF9-0B08BAD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3D17-B32C-457D-9FCE-D30E92CA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64B4A-03D5-48E6-B75F-47AC87B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DD33B-FBD3-4EAF-866D-8FB25B4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E6FBD-8272-4234-A2B9-754E0E0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8F377-47D1-4A75-B05F-1FBAC5A3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50DB3-5AA3-495E-A70C-A9EE62BA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831F9-1186-4BA8-977D-4CF6CA4F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EC31E-CA6E-4B23-BE01-1CB9AB73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F2574-30C1-44E1-94DD-E3AA880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B5664-CB50-4E5E-A0DF-CC809C5C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93B50-9FD7-4288-A0D7-45F9A1B4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0F40-9C85-4A38-A797-85D60B30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6AF64-127C-47F9-BB0B-E0AA8C0B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4E9E4-FC71-4516-BF8B-D612913B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1D986-E460-47C4-8F76-57848D59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4ABA2-F239-4EC5-A849-8900BC24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8FA6B-B7B9-4F08-AE67-29F4460F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CE457-7E52-4990-AD2A-B140FF0A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24080-53CF-417E-890B-DF771B83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D1294-18F0-4D5C-BB9D-F7B44890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78DFD-3BBB-44F9-BB32-57414F77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DB242-78EF-4DEE-9EC0-7C4DE3C2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DB90-8483-4C6F-84BE-89A78B6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FFDBE-8773-41E0-865F-CA42D290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3164F-8D79-4BCF-804D-B8BE1F6D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2B081-E4C0-4603-BAA4-AE72075E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D4B0E-4102-408E-AE30-26F2343A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6F457-664D-442E-A4BA-C351EA97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F2A76-37EF-4790-ABFA-907A5616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CA5C6-E7C0-4C73-BC98-28BF992A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612E5-20AC-4BDF-977B-BA976541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5F38C-72F4-463A-B228-EFECF59A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C946D-6D91-42A6-B678-AA020E89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1E99-157B-46EB-A562-B8F0A462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18E11-AB98-430E-8DCE-76894EB0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8A75B-1F83-4142-AA32-A09EB54A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76F31-A29F-4C3C-AD39-4F5FA4CD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AFA37-04A2-4297-A7E1-10DD806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4CC97-97A3-4BA5-B552-4D13C7AF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B2660-2AB7-43EC-A7D3-DD3B9055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3D2A6-41B5-40D4-91D1-D4E70ED5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E6613-C223-410F-9FE7-F61390A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8D921-04AF-43C7-A916-7CB9C319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410C1-D630-4C18-A957-064CEEE2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DA4F-8DC2-48D3-837C-AF813EE1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E12BC-5A9B-46CC-BA87-0A20AEF2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315449-0865-4874-B5F8-76583A7D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B34D0-252D-4B53-A8A6-D0DEBA91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41001-3B73-4486-B056-1597162A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B5BBB-7D6C-43DF-AAC0-09C5E44F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3B56D-248D-4416-B5C3-BF570E0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C56A3-A3C8-4C66-86D4-3E5357C6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B42FE-E1F2-4C6C-8B13-009D35F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3BCBD-8880-4157-84CB-77B844BB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E7D36-51C8-4937-AADE-739FB836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0CB4-72C0-433A-B19F-4370B9E9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27E74-14BF-428A-8227-7E159510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82840-9E2A-400A-98EC-25C11ABE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32C20-2365-4962-8C65-F3F7ED7E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EFD56-B00A-490F-803E-3D1C26E6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8557C-E99A-4DBA-A21C-2B1386C0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70BD8-8BD3-4F33-AB2B-AE064D2C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A2D42-33D3-4555-ADEF-CF90CDA5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A16A7-C0BB-457E-94CC-67D20FD6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082AC-90CB-4ECF-8C3E-1ED11770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B5C4E-0C42-462B-8886-70CA040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FF5-8DC4-43D5-B563-28A289E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1016-7734-4A11-9787-EE554E1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86119-1EA0-4C6F-8729-4F30F829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CED74-73AF-4BBA-AA95-E02D573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86805-3989-4886-ABB5-E3B18BDB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50709-42D7-4E38-BB82-28E9151E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D96D9-3A1E-4A5B-8C24-50FD97E9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FF3AE-EA26-44F3-96F8-941310FC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DD3B6-1695-4775-ABC2-577DB2DB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50906-5674-4FDE-B72D-A05137C8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48022-5A41-40D3-B8E4-13F50007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3B29F-F040-4CA0-B159-B816FE00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F488-28CF-488D-B9C7-32EF08C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B53C80-BF8A-4942-9D2C-3D8C8657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3847D-8619-4D6B-A267-9580EF3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0F89D-65C9-40EA-BF33-52B2E216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3255B-1393-4920-96CA-A13D6907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D67C2B-047A-4042-BFE7-691E01BC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AE279-899F-4885-BB27-7250BB7C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FCC870-ADFC-4D52-AE2A-92E621E9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15CAC-5C33-4C23-A44A-4A524434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635F5-09DA-4946-BC74-C32590DB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744B1-137A-4D78-9BE7-B207CB17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223B-C06D-4D38-8973-A7C3C0BD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D12F0-BECC-4253-9273-A8EB1F49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08AEE-580B-4F5A-A7EE-27879B16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ED1935-BDA3-4FA6-9773-9706C51C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412CE-FFB1-4869-819F-C4FB5591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E3F60-0EE9-460F-9645-5BAADD4D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FBCEFE-49E1-46A9-B891-81A1B676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6406E-113C-4F16-B383-4FB9BBD3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AF386-B4CB-4B4F-82D7-C4D5027A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FA0D8-1F03-4F90-88B5-B8FA057A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88A3BE-2E7D-466B-9219-0C8EE28E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8910-4841-4E60-9079-93149CDF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5B5F2-DAD6-4DAA-B02C-6329CA13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B39C23-7345-42FD-8095-C105C56C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FB914-3776-4BB3-AF09-9B6D792F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DB514-B696-446E-8157-53ED0FAD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03BCD-EFFE-4666-867E-509826ED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7F05D-27EE-4D7F-B0E9-43D1709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FE866-4847-4EB7-BC4B-647BF814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56BAB-56D1-4B7D-9CB0-9BAC300B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F0783-E72F-463A-B617-2F786360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14ADD-93B7-4DFD-A1BB-24D145B7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3A38-2469-48D2-9BA1-C06D247B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A3FFE-3396-4510-B4B6-BFC11505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430C8-A446-445F-8142-03F5C839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9FA39-E0EE-4D94-A4CF-8A795F13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50823-0D53-4780-B9EA-9AA770FF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EADB97-99C4-4660-ACDF-4E189523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37027-6DDB-465A-BC63-4CEC6C15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A479B-0B7A-4F0C-9AA1-9D5E07E5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8CAC0-4A8B-46E4-BF29-ED0B0F56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BF20D-5276-47D5-AD6B-02B31766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EFB70-BDEE-46B1-BDF6-53AAC948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1FA0-E63A-445D-B111-F3E824E9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F71E91-9CFC-4AB0-9CD4-059C629F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513D6-6F8D-4B4F-AB6C-3641FD97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17511-B50C-4E18-A5BB-0B085313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15BA1A-B728-4902-9AEA-51587FF6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E7E9A8-704B-43C2-A973-71E1CB75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D25D0D-8BAA-4531-BCD2-3F3F87A2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C1ED1F-97C7-4CFE-AD30-4B367E17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4D61E8-837E-46D0-A859-1C9EF265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CF975-E996-4039-8BCE-5C3C2F1A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C069DD-9A0B-4C37-9A52-DA63BF7B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64569-F5C0-4D47-B96B-C2101E5E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4F4A85-49DC-4574-AC0C-89AE867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04044-D45D-48C6-9DE5-EB665695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71DBBB-A97E-4761-956B-E30C80DD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67EB32-740E-4220-B0D0-579141D6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450CD5-8FD1-488F-8155-10AC9875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9D7A20-BA24-4B56-84E3-8D408C42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E141C4-3CB9-4765-9B4F-0C761688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C4C11F-B70A-4F11-8C7F-95F4EB15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A52D21-D831-4F6B-B452-4BC08DDF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D4C67-1943-4E29-92B4-DF7B933F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C048-0CEF-4190-9A56-6B2074B6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6B8BCC-941E-470C-B6A9-54FAA0D8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4A3E5D-7C5C-4CA3-9E46-9B15E7A0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BE3CDB-CCA2-4B21-A3F3-2CD2D47D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CB37E-71FE-46D7-9213-889CD36B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923A44-FA3E-4565-942B-415E30F4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4DC61-126C-425D-A091-4D7BDF2B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1AD75-2E02-4CE1-A85F-5AC5378F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8BC6-C9B3-40A6-9DE9-DAB8B295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30AD-3F74-46AD-87BE-FF6D1A21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74F-CFA5-4C73-93DE-552BB17E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8DB6F-EFD3-4DEE-8CA2-BBEDDC1C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5AF3-BCF4-4263-92BC-8AC9B97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62AA2-27D2-486F-BF8F-05B59B17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C7DC-72E1-4EEB-A4EC-FBD544A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9A3C-71BF-4B77-B338-E1DC9B3F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A11F-8617-4E1C-BDEA-24F884FA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81B6-CE2C-4663-8945-6108D587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7AD4C-74F6-4EB4-BB68-00ABAE13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D946B-C649-4B8B-9598-C3B659E7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F145-C810-4186-BC1C-5E9E1EF8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86D-AE19-4E79-B375-C57B8A29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1563-CE98-451A-8FB9-53E4AF4F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EA31-738E-498D-9FF5-0F1E962F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2508-17E5-4833-80CB-D202D523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18EB6-5D7C-4250-9F97-8715CBA7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C4AE-9E6A-4472-B952-E8E5B0C6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7B88-CEEB-421C-9756-AE6A40D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BC1D-0B1C-47BE-A123-02F747BF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C0A4-45C6-4A34-8B9F-5376255C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D86E-0FBE-47B0-9E7F-CAD2DA7F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FB49B-1A2D-4FB3-8D07-59BC0702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5E5-CA97-4AD9-8197-7813D0AB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9764F-EB9D-4BE9-82A5-143D6C4C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4302C-8C29-4325-8442-D0B5B500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8C0FA-263F-4CA8-ABDA-A1B558EC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222C7-742A-498B-B5BE-EBE19F35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FDE47-561E-47AE-8E60-0E2B8382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077D-79ED-4B3F-B87C-21B51DF7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76CA8-F3B7-4EC4-8603-E8121F6F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07F4-D9ED-4F37-8ED6-73BD1A5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30BFE-FD2C-4EA7-8955-6D80F6D3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CC9E-612A-4938-9708-88DB81FE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4A1-47F2-4A2F-A200-2001E198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4149-944C-4C70-941A-1782BD76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66EE1-52A0-46A2-8EDD-98A1F6CB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9DEB-03B4-4C4E-A686-4DF9E818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A69D7-0A62-4FD0-AF34-5998EBE6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A47BC-8226-46E4-B615-54053F5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C181-7629-4D67-A3A2-136B99D0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60F99-6467-4B62-83E0-280E59F7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AB927-B47A-4354-AFE1-0AD9B22B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D6728-4254-4E32-A8BE-0CC30D45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1257-A252-4E0F-A489-6FD2BC4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F52-0E21-4561-807B-1256D16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FC7C-5576-4AB8-8C16-296A211D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B78DD-0418-451A-88EF-CEFF7256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F53B-B6F6-42CE-A79A-39B82ACE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CD4CD-9B52-4921-BBED-2BA5CE1F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AE6B7-F6D9-461A-8E4C-628362A9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D570-635C-42C2-9D05-95A26D24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8DDD6-4935-41C1-B9A4-EB71DC6C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33A3-2BF8-43C9-BD71-385E4959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5EC98-4FC7-4086-BA5E-89763BFF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6931-2FB5-4387-8CBE-742353E0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3CA-E8CE-4FE0-8CD3-7B13934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143D7-D939-4A2E-9C6C-2EC815E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4E8D-B2E0-49A3-82DD-23C9BEB2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AC28E-5C4D-4EC5-A693-F1FA5ACA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E4738-C77A-4AB8-B6FD-E01B5CBD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B908B-4809-468B-A9C0-B21C2BB3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6C72F-E476-4A87-A486-4D7ACD03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E249B-1536-49AA-8BE8-FCB0FC1B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1392E-B96C-46BD-99A5-513773BB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7BDD8-61ED-4774-A1A2-9385D267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C626F-E98E-445A-B96B-2E67BFE0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EA7-2769-46D4-8896-6FCA54A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CCA57-3A5F-41B5-B2A6-BF62514E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2B9DC-AA52-4C1B-B333-6FE48DB1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88401-0482-4664-B9B9-8C00CCA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F339F-1B50-4B63-BCA0-E1C91701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53416-A569-4377-9801-C1B7C51E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06A2B-5576-499D-A2AD-7C07BF55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E4E5-B847-44CF-85B4-07C11B94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6EDDB-0387-4A83-BE03-58CAF7B8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773DA-2B10-48C0-A5A9-2B6655C5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8DC1D-EA6C-4BE5-AD45-CEDF52FE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CDFB-018C-4DCF-94D7-67F8ACF704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2BBB-3B05-4EF2-97C3-B70E096EF4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B3D6-73EA-412B-BB87-8DF2113947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8B41-538F-4D01-AFC0-8EB18F745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89BA-757F-47C6-8F3C-86D14E212E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8D58-41FE-4CD8-AA68-FC1A175FB3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08ED-A6AE-48A5-B3B4-7E297CDB25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01C5-DA43-4709-BE69-A5C3670A4B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E4C7-6F3E-4593-A42F-7C9D28033F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58BC-F8D1-47B7-8D09-4C468CA09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C246-F1A5-47BC-9E73-323F809422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BA6F-168A-4C2C-BB9D-B8326CBD1E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0F4A-99B6-411E-BA86-85CFF8D1F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EF59-0F77-4140-9C4C-A5C257D390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BBD5-009E-4D08-95A4-B9C8425959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25C-7812-400C-AE00-B989281E9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5A49-59B4-4998-95E5-72443605A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F838-6272-4544-B432-75EF3EA0A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44F5-ACB2-403D-B068-79B6D4CD76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7573-8C38-4874-9B77-6AD3482B4B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F24B-D07E-4C47-A1E7-1B4E5E068C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4482-DC06-4AFF-A5D6-E69928BD4E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7383-788D-46CA-9D40-D7397D5CFE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F177-9A88-481C-B687-48AC988EBC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4B6A-509E-4370-B153-B463412A5F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7541-3438-492C-9A4D-9348DEAB5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48E-5AD2-498A-9C54-69A4FF9D84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4EA9-EFC0-4799-9565-ED9E8928B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5E87-E51A-4C66-9FBA-2CC7F1078C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84A-2769-4DF8-883D-729FCE1A36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AC62-FD17-431A-9003-BEBD0F18E8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B44-64B3-417E-98DA-F5335FD14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22D-EEC6-4216-894F-4A5CF50771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1446-30D6-4B74-B63D-7EB0FBC10D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EDDB-7ACA-4E95-A756-46AA5E92D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C15A-F16E-4F5F-9A39-225B8C4C8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97B-BBF0-4E9F-95B4-D2AC7CEA85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8A9D-BC79-4409-A456-C52DC5EC4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AB6C-3D6D-43FB-95CD-B16F3082A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392D-D0EC-45AE-AAAF-5F8F43FD5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5B76-0361-4B2D-8E57-BE84F7B2FC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F38F-BCD3-4C19-85F8-0A5171EC2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61920" y="2852640"/>
            <a:ext cx="7220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622440" y="1087560"/>
            <a:ext cx="1628640" cy="39024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523800" y="1547640"/>
            <a:ext cx="8096400" cy="37627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826920" y="2852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826920" y="371628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533520" y="2405160"/>
            <a:ext cx="8076960" cy="20476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755640" y="371628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95400" y="1690560"/>
            <a:ext cx="8953200" cy="34768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4067280" y="308772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1023840" y="350028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1476360" y="392436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2700360" y="435600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1619280" y="4778280"/>
            <a:ext cx="93672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42840" y="1962000"/>
            <a:ext cx="9056880" cy="29340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718920" cy="2937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4067280" y="2843280"/>
            <a:ext cx="1009440" cy="2937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2987640" y="369720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2556000" y="411480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3851280" y="4543560"/>
            <a:ext cx="72072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09440" y="1504800"/>
            <a:ext cx="8923320" cy="38484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792360" cy="2937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3905280" y="362592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2700360" y="447516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1403280" y="489744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6300720" y="4903920"/>
            <a:ext cx="57636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3:1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